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75E41-48F1-499B-B663-6F8FA84B62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4090E-2119-4010-8548-696D6C6E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1010-34EE-469B-B63E-87383C67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8B29-DFBD-4C55-8443-78D753A489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44CF0-0EBC-4821-B9AC-8F5DA118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45E0-2B40-4070-978D-90FB0900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79D9-CDC4-4DD5-9804-94D144E8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2F3B-2119-430D-A73E-E4038CB0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8664-D887-4B0A-AEE7-12095A16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06317-BAF5-45A2-B3DC-A37702AF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F1F5-42DE-4501-A556-DC9C708E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55E4-9132-4DEA-9BBD-84C794F4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412C-9B09-4305-9F18-E35A0E464C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712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七章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组胺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与抗组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31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对中枢神经系统抑制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从轻度思睡到沉睡、嗜睡、肌肉软弱、乏力、头晕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头痛、共济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偶有烦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谵妄、抽搐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胃肠道反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口干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欲缺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恶心、呕吐、上腹部不适、腹泻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心血管系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胸闷、心悸、心动过速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视力模糊、耳鸣、皮疹、光敏感、排尿困难、阳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详见消化系统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掌握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1)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苯海拉明、异丙嗪、氯苯                                                                  那敏等的药理作用、临床应用、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的药理作用、临床应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熟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受体分型及其作用特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组胺、组胺受体及其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广泛存在于机体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经肥大细胞脱颗粒释放入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作用强大而广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通过受体产生效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260360" y="1844640"/>
          <a:ext cx="6707160" cy="337176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7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 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 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受 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拮抗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血管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扩张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通透性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脏（直接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力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吡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率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房室传导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丁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肠道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支气管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海拉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壁细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液分泌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西咪替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枢及外周神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胺合成与释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硫丙咪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700360" y="1341360"/>
            <a:ext cx="39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组胺对人体的主要作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效应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2205000"/>
            <a:ext cx="66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药理作用及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8041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诊断嗜铬细胞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胃分泌功能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晨起空腹注入组胺后测胃液，无胃酸分泌为真性胃酸缺乏症（如胃癌、恶性贫血等）或胃酸减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颜面潮红、头痛、腹痛、心悸、体位性低血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还可引起严重的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2360" y="3501720"/>
            <a:ext cx="8785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苯海拉明、曲吡那敏、氯苯那敏、去氯羟嗪、异丙嗪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14440"/>
            <a:ext cx="73472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抗组胺药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1773360"/>
            <a:ext cx="92160" cy="914400"/>
          </a:xfrm>
          <a:custGeom>
            <a:avLst/>
            <a:gdLst>
              <a:gd name="textAreaLeft" fmla="*/ 59040 w 92160"/>
              <a:gd name="textAreaRight" fmla="*/ 92520 w 921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和作用机制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1080" y="1052640"/>
            <a:ext cx="8929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拮抗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对抗组胺的平滑肌兴奋、血管通透性增加作用、  部分对抗组胺的降压作用和心脏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中枢抑制作用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静、嗜睡等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中枢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苯茚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略有中枢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抗胆碱作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体阻断药具有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其他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7080" y="304560"/>
            <a:ext cx="815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变态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晕动症及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苯海拉明、异丙嗪、布克利嗪、美克洛秦等对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动症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妊娠呕吐及放射病呕吐等均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管神经性水肿、输血反应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梅尼埃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综合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清病及其他药物过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13:30Z</dcterms:modified>
  <cp:revision>2</cp:revision>
  <dc:subject/>
  <dc:title>  第二十七章    组胺                  与抗组胺药</dc:title>
</cp:coreProperties>
</file>